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C434-76D0-4D82-8DBB-5903ED6D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452-C868-43E4-AB40-08592831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C56E-CA75-41D8-9055-0AA20420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BCC-0E0D-4198-82FC-076202E2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7E4F-44D9-43D5-9CBB-0E9A9888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8A5F-F956-4BE0-985D-2E68970B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FFC6-A398-456E-B31B-406C3795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4FB5-8ED9-442E-BA6D-C9CB03D0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C817-3F3B-4B19-A991-A56600ED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E296-1340-40A6-9B1C-D24D4BBE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3490-BF9C-4C6D-8672-C43D16EE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3A7-F4DE-4D5B-B284-3AB058E4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9C12-094A-4C8C-BF34-0BC487B8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98F9-8DC0-4D36-9A44-AF33D0CF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21D0-B034-464D-A886-C7143140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8BBB-4193-4BE1-B993-FCA286F5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53C6-5E24-4E01-AA68-D5A2CA3C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E409-7E7A-46E4-B94F-14C478A6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EBD22-848E-49C0-8799-D4FF4537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20880-A905-4AF8-91A1-9606521D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30F66-8533-4192-9395-F7E6B8E0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3E8D1-B7C6-45C3-AD6C-1C2521B6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DE4-CE3F-417E-BC1E-06250142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DFB57-2FF5-41C1-A89D-641FB6C5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56F95-6C6D-464E-AE7E-E5A7DCC4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4DD77-6342-4840-8A37-7D7517AA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5681-ABA5-415D-B912-7ED6EC54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AA8FF-0DBA-4BED-B6B7-744B9D42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008F-A1C4-433F-B58A-AF8CCB13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F8E0E-6785-4AAC-B52B-08B9454D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AC007-09D8-4839-9256-C1DDCCF6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A3E5C-4F11-4333-8370-1BE994FE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83D0-3460-4EBC-8CE3-F37BD467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2F8-EB11-490F-89B6-4B1A4817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3A128-6D80-47DF-BB79-6313A964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5AA77-C51B-4260-BFAB-45ED69BF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44718-2CF9-46DD-BBEF-54C6323D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DBD7A-802E-4BBA-BCA2-8E9BCD8C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9970F-A86E-47C7-B70F-C4243BF7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AF8AA-F12F-422B-A49D-966ACC87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E018D-A5AC-46A5-83ED-D8D42739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84A66-B162-4C8C-A46F-9D6A872B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A9F8A-41F9-49B9-8748-6D148D76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76DD-20F4-47C2-804A-0386C4E0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3A2-3048-494C-9B94-D3D7F00D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DEA-8AA2-44BC-9BCE-08B791BC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C05-3D95-4B08-A386-871EB83F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1A5-BD76-403B-A63F-41640BDB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8068-672E-4D67-9140-B3A26FACFA6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DCF4-0B6C-4A62-A463-EBE357F9B33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E4DF-B7CC-4A7A-91B5-51E8B939FB8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3F57-0ACE-4AFF-B5CE-824D1BE5B7C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6400" y="1255680"/>
            <a:ext cx="8448840" cy="2438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еханическая обработ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ераци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мораживание – позволяет восстановить структуру мышечной ткани рыб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мачивание – в результате содержание соли снижается с 20 до 1…3%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делка – удаляют чешую, плавники, голову, внутрен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готовление полуфабрика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ыбный це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крупных предприятиях механическую обработку рыбы производят в рыбном цех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орудование: ванные, производственные столы, холодильники, мясоруб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3" descr="fish.ceh.jpg"/>
          <p:cNvPicPr/>
          <p:nvPr/>
        </p:nvPicPr>
        <p:blipFill>
          <a:blip r:embed="rId1"/>
          <a:stretch/>
        </p:blipFill>
        <p:spPr>
          <a:xfrm>
            <a:off x="2857680" y="4214880"/>
            <a:ext cx="33573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зморажи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мораживают рыбу в холодной воде с добавлением поваренной соли или на воздухе в холодном помещении в бумажной упаковк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3" descr="9.jpg"/>
          <p:cNvPicPr/>
          <p:nvPr/>
        </p:nvPicPr>
        <p:blipFill>
          <a:blip r:embed="rId1"/>
          <a:stretch/>
        </p:blipFill>
        <p:spPr>
          <a:xfrm>
            <a:off x="2571840" y="3857760"/>
            <a:ext cx="40719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чистка от чешу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уществляют вручную ножом, скребком или механическим способ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Рисунок 3" descr="112.jpg"/>
          <p:cNvPicPr/>
          <p:nvPr/>
        </p:nvPicPr>
        <p:blipFill>
          <a:blip r:embed="rId1"/>
          <a:stretch/>
        </p:blipFill>
        <p:spPr>
          <a:xfrm>
            <a:off x="714240" y="3071880"/>
            <a:ext cx="3357720" cy="18572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113.jpg"/>
          <p:cNvPicPr/>
          <p:nvPr/>
        </p:nvPicPr>
        <p:blipFill>
          <a:blip r:embed="rId2"/>
          <a:stretch/>
        </p:blipFill>
        <p:spPr>
          <a:xfrm>
            <a:off x="4214880" y="2857680"/>
            <a:ext cx="1785960" cy="30715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111.jpg"/>
          <p:cNvPicPr/>
          <p:nvPr/>
        </p:nvPicPr>
        <p:blipFill>
          <a:blip r:embed="rId3"/>
          <a:stretch/>
        </p:blipFill>
        <p:spPr>
          <a:xfrm>
            <a:off x="6643800" y="2857680"/>
            <a:ext cx="2071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трош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трошение производят ручным способом или с помощью специального оборудов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4" descr="00.jpg"/>
          <p:cNvPicPr/>
          <p:nvPr/>
        </p:nvPicPr>
        <p:blipFill>
          <a:blip r:embed="rId1"/>
          <a:stretch/>
        </p:blipFill>
        <p:spPr>
          <a:xfrm>
            <a:off x="928800" y="3214800"/>
            <a:ext cx="2214360" cy="28573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5" descr="343.jpg"/>
          <p:cNvPicPr/>
          <p:nvPr/>
        </p:nvPicPr>
        <p:blipFill>
          <a:blip r:embed="rId2"/>
          <a:stretch/>
        </p:blipFill>
        <p:spPr>
          <a:xfrm>
            <a:off x="6215040" y="3214800"/>
            <a:ext cx="2357640" cy="278604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6" descr="gg.jpg"/>
          <p:cNvPicPr/>
          <p:nvPr/>
        </p:nvPicPr>
        <p:blipFill>
          <a:blip r:embed="rId3"/>
          <a:stretch/>
        </p:blipFill>
        <p:spPr>
          <a:xfrm>
            <a:off x="3262320" y="3214800"/>
            <a:ext cx="28814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зделка на порционные куск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00040" y="185724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ыбу разделывают н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угляши – куски круглой формы с кожей и костя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ле – пластова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Рисунок 3" descr="334.jpg"/>
          <p:cNvPicPr/>
          <p:nvPr/>
        </p:nvPicPr>
        <p:blipFill>
          <a:blip r:embed="rId1"/>
          <a:stretch/>
        </p:blipFill>
        <p:spPr>
          <a:xfrm>
            <a:off x="714240" y="3857760"/>
            <a:ext cx="3071880" cy="24289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ff.jpg"/>
          <p:cNvPicPr/>
          <p:nvPr/>
        </p:nvPicPr>
        <p:blipFill>
          <a:blip r:embed="rId2"/>
          <a:stretch/>
        </p:blipFill>
        <p:spPr>
          <a:xfrm>
            <a:off x="4929120" y="3857760"/>
            <a:ext cx="3643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луфабрикаты из рыбной массы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тлеты и биточ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фтел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рикадель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ль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ул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нельная ма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Рисунок 3" descr="ww.jpg"/>
          <p:cNvPicPr/>
          <p:nvPr/>
        </p:nvPicPr>
        <p:blipFill>
          <a:blip r:embed="rId1"/>
          <a:stretch/>
        </p:blipFill>
        <p:spPr>
          <a:xfrm>
            <a:off x="6572160" y="1785960"/>
            <a:ext cx="2071800" cy="17859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" descr="zz.jpg"/>
          <p:cNvPicPr/>
          <p:nvPr/>
        </p:nvPicPr>
        <p:blipFill>
          <a:blip r:embed="rId2"/>
          <a:stretch/>
        </p:blipFill>
        <p:spPr>
          <a:xfrm>
            <a:off x="6572160" y="3643200"/>
            <a:ext cx="2071800" cy="1643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5" descr="ffff.jpg"/>
          <p:cNvPicPr/>
          <p:nvPr/>
        </p:nvPicPr>
        <p:blipFill>
          <a:blip r:embed="rId3"/>
          <a:stretch/>
        </p:blipFill>
        <p:spPr>
          <a:xfrm>
            <a:off x="4643280" y="17859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6" descr="hfg.jpg"/>
          <p:cNvPicPr/>
          <p:nvPr/>
        </p:nvPicPr>
        <p:blipFill>
          <a:blip r:embed="rId4"/>
          <a:stretch/>
        </p:blipFill>
        <p:spPr>
          <a:xfrm>
            <a:off x="4643280" y="364320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20:39:32Z</dcterms:created>
  <dc:creator>user</dc:creator>
  <dc:description/>
  <dc:language>en-US</dc:language>
  <cp:lastModifiedBy>Студент</cp:lastModifiedBy>
  <dcterms:modified xsi:type="dcterms:W3CDTF">2011-11-14T06:30:58Z</dcterms:modified>
  <cp:revision>7</cp:revision>
  <dc:subject/>
  <dc:title>Кулинарная обработка рыбы</dc:title>
</cp:coreProperties>
</file>